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C16F-E7E7-4891-9884-7D2D47F2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96BB-3781-41A5-B8BF-1E836C99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FE57-A2C9-49AC-A835-A27AEEF8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2CEC-AD0F-4DE2-B084-1D0EC327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96F-F941-4A8B-B5F8-AD400440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99A-9301-4711-AA63-1A81E5FA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84C2-D366-47F3-A03D-C66672B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BCE2-090D-412E-B233-56132A5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2D8-D0E9-40CF-82FB-F53B42B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358-2755-4F98-84A2-6C222FE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0F52-2487-4720-A5F2-00C34116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31C5-1870-4CFA-95C6-626B29D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89E-D989-4978-908F-A8E0BA2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35F-B60A-40F9-916F-2B2F188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AFF-2467-423F-B85D-E8DB393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A4AA-403C-4EEE-808E-E6EF4F39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4B21-6465-4FFE-B97E-4061C348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A0DA-D7BD-493E-BBCD-62DB084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1EC6-9442-4A2A-A33F-CD84407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B2E3-8B88-4C92-878D-4A8BFE8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A181-EF91-4083-BB3D-F3DD567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4C9A-1626-4275-9777-761A1A49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3F0E-AB0A-487F-B447-3F29616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F950-F9C1-44EC-8650-91036044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FC4-950C-4CD5-96F2-0CEA72033C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F4F-91F5-4856-99DC-1094262DF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sras.ru/publ.html?id=855" TargetMode="External"/><Relationship Id="rId3" Type="http://schemas.openxmlformats.org/officeDocument/2006/relationships/hyperlink" Target="http://www.ecsocman.edu.ru/db/msg/324618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isras.ru/blog_Davydov.html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ssa-rss.ru/index.php?page_id=22&amp;id=53#Slide 5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ssa-rss.ru/index.php?page_id=22&amp;id=53#Slide 9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ssa-rss.ru/index.php?page_id=22&amp;id=53#Slide 13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hyperlink" Target="http://ecsocman.hse.ru/docs/33722887/" TargetMode="External"/><Relationship Id="rId15" Type="http://schemas.openxmlformats.org/officeDocument/2006/relationships/image" Target="../media/image1.png"/><Relationship Id="rId16" Type="http://schemas.openxmlformats.org/officeDocument/2006/relationships/hyperlink" Target="http://www.ssa-rss.ru/index.php?page_id=22&amp;id=53#Slide 8" TargetMode="External"/><Relationship Id="rId17" Type="http://schemas.openxmlformats.org/officeDocument/2006/relationships/image" Target="../media/image1.png"/><Relationship Id="rId18" Type="http://schemas.openxmlformats.org/officeDocument/2006/relationships/hyperlink" Target="http://www.ssa-rss.ru/index.php?page_id=22&amp;id=53#Slide 7" TargetMode="External"/><Relationship Id="rId19" Type="http://schemas.openxmlformats.org/officeDocument/2006/relationships/image" Target="../media/image1.png"/><Relationship Id="rId20" Type="http://schemas.openxmlformats.org/officeDocument/2006/relationships/hyperlink" Target="http://www.ssa-rss.ru/index.php?page_id=22&amp;id=53#Slide 14" TargetMode="External"/><Relationship Id="rId2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Всероссийская научная конференция 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«УПРАВЛЕНИЕ И ОБЩЕСТВО: НАЗРЕВШИЕ ПРОБЛЕМЫ, ИССЛЕДОВАНИЯ И РАЗРАБОТКИ» 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(1-2 ноября, Москва, 2011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51280" y="2492280"/>
            <a:ext cx="1390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клад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5280" y="3357720"/>
            <a:ext cx="842472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алитические возможности системной социологи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исследовании проблем управления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79640" y="4797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А.Давыдов (Институт социологии Р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01400" y="59500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сква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oft Systems Methodology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Management</a:t>
            </a:r>
            <a:br>
              <a:rPr sz="28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(«мягкая» системная методология)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619280" y="1746360"/>
            <a:ext cx="59770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haordic Systems Methodology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137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ve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t 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ed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olographic Decision-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Participative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>
            <a:off x="2843280" y="1628640"/>
            <a:ext cx="33336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Agent-based Social Systems Sciences Methodology Management 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системное управление в информационном обществе, основанном на знаниях)   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148360" y="2579760"/>
            <a:ext cx="3240000" cy="27208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8959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24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Математические теории 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социально-инженерной методологической парадигмы системной социолог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управления сложными социальными сист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управления большими социальными системами в условиях неустранимой неопределенности и р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оптим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адаптив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организационных структ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надежности и эффективности систем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принятия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омпьютационные модели социально-инженерной методологической парадигмы системной социолог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ная 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льти - агентные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с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ронные с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еточные автом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ретно-событийные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усственного интелл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обальные суперкомпьютерные модели (Ultra Large - Scale Holistic Simulati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Socia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upercomputing, Visual  Supercomputing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upercomputing и т.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Естественнонаучные направления социально-инженерной методологической парадигмы системной социолог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97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и разработка психологических, социально-психологических, социологических, организационных и т.д. методов сбора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индек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и ведение Баз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и разработка методов и пакетов анализа информации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nin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полненные проекты в рамках системной социолог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дернизация и инновационное развитие Росс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намика развития человека в социу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человека в России: долгосрочный прогн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циология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гностика и прогнозирование Арабских револю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циология архитек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ная экспертно-диагностическая система МАК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ная система для анализа текстов Контент-Анализ П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оекты выполнялись в рамках програм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лексный системный анализ и математическое моделирование мировой динамики Президиума 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Development Programme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исследовательских программ Института социологии Р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исследовательских программ Российского общества социологов (РО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ОЕКТ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Модернизация и инновационное развитие Росс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Место России среди стран мира (2009-2010 г.) 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цели государственного управления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79280" y="898560"/>
            <a:ext cx="784872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ндекс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есто России среди стран мира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оличество стран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edom of the Pres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74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ruption Perceptions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6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dex of Economic Freedo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3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obal Peace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6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ase of Doing Busines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uality of Life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9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ppy Planet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8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cracy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7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nagement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7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stainable Society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ailed State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tworked Readiness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uman Development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8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gatum Prosperity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vironmental Performance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u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obal Innovation Index INSEA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obal Competitivenes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vel &amp; Tourism Competitiveness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U ICT Development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obal Gender Gap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obal Innovation Index BCG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novation Capacity Inde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OF Index of Globaliz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der Equity Index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едварительные замеч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ная социология развивается за рубежом уже несколько десятков лет, в России практически неразвита. Поэтому в докладе будет кратко рассказано о специфике системной соци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докладе не будет упоминаний об использовании системной социологии и российской системе управления крупными российскими компаниями. Об этом мог рассказать зам. руководителя ИК РОС «Системная социология» М.Б.Вильковский, который входит в 100 Топ-менеджеров России по версии  журнала «Коммерсант», лауреат премии «Серебряный лучник» (лучш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 1999 г в РФ), являлся Вице-президентом компаний «ЮКОС», «Росбилдинг», «РКС», сейчас Вице-президент одного из крупнейших холдингов, но сейчас он работает по контракту за грани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докладе будут кратко представлены результаты некоторых реализованных проектов, в частности, международных, каждый из которых включает более 20-ти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я доклада будет опубликована на сайте РОС.  Желающие могут скачать презентацию сразу после докл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The Global Innovation Index INSEAD </a:t>
            </a:r>
            <a:br>
              <a:rPr sz="2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есто России среди 125 стран мира в 2011 г.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Innovation Index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tory Environm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 of la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ulatory qualit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vernment effectivenes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ve Outpu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 Environm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novation Input Sub-Inde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novation Output Sub-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novation Efficiency Inde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man Capital and Researc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 Sophistic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Outpu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://www.globalinnovationindex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Эффективность государственного управления 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Правительства РФ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140000" cy="38894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84680" y="6093000"/>
            <a:ext cx="68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 http://info.worldbank.org/governance/wgi/sc_chart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Борьба с коррупцией в РФ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4680" y="6308640"/>
            <a:ext cx="68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 http://info.worldbank.org/governance/wgi/sc_chart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3337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Решения Президента РФ о модернизации и инновационном развитии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истемного анализа принятия решений Президентом РФ использовалис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J.Keller и Y.Yang, которая объединяет Leadership Style, Decision Context and the Poliheuristic Theory of Decision Mak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heory of Constraints (теория ограничений) в принятии решений, в частности, при ограничениях на время реализации решений, ограничениях в квалифицированных кадрах, политике и внешних обстоятельств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ия Complex Decision Mak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ая система Decision Board sim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ОЕКТ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Динамика развития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Развитие человека и демократии на уровне социума в целом (1800-2200 гг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2676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ластеризация динамики значений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  <a:ea typeface="굴림"/>
              </a:rPr>
              <a:t>HHDI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для стран мира (метод Self-organizing graph (SOG)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952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Динамика значений Human Development Index 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для социума и России (1913-2050 гг.)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438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ОЕКТ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Арабские революции 2011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Системная модель Египетской революции 2011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(революция 2.0 – первая Твиттерная революция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58040" cy="446724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046880" y="6491160"/>
            <a:ext cx="71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 Wahba K. 2011. URL: systemdynamics.org/conferences/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Разделы докла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ка системной соц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ы некоторых выполненных проектов в рамках системной социолог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def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рнизация и инновационное развитие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def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намика развития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def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абские революции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Египетская революция в Твиттере 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82040" cy="5029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960" y="6546960"/>
            <a:ext cx="879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  Boguta 2011. http://www.kovasboguta.com/1/post/2011/02/first-pos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Egypt's internet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witter Black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410360" cy="53006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56320" y="630864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точник:  Boguta 2011. http://www.kovasboguta.com/1/archives/02-2011/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Топология социальной сети в Твиттере во время объявления отставки Президента Египта Х.Мубарака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400720" cy="52718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21040" y="6491160"/>
            <a:ext cx="89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nisson A. 2011. http://gephi.org/2011/the-egyptian-revolution-on-twitter/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600200"/>
            <a:ext cx="8686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ноз на основ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brid Human Development Index (HHDI)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cracy Index (D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ен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ляет с вероятностью 81.8% правильно предсказывать массовые антиправительственные выступления с требованием демократизации политической подсисте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революции в России может составлять около 7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393372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Прогноз революции в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285264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HHDI / 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бщие выводы из реализованных проектов (прогноз для России до 2050 г.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ссия, вероятно, останется в Полупериферии Социума (Мир-систе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человека в России, вероятно,  будет уступать высокоразвитым странам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ь революции в России может составлять около 7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ч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зкая эффективность государственного управления, в частности, в области демократизации, повышения качества жизни и борьбы с коррупц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комендац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формирование системы государственного управления, в частности, механизмов принятия решений, на основе системного управления с другими системообразующими и целевыми функц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Благодарю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Конкурентные преимущества системной социологии. (Электронное издание) М.: ИС РАН, 2008.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isras.ru/publ.html?id=85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 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://www.ecsocman.edu.ru/db/msg/324618.htm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Социология 2.0. М.: ИС РАН, 2009. 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ttp://www.isras.ru/blog_Davydov.htm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Модернизация и инновационное развитие России. М.:РОС, 2010.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http://www.ssa-rss.ru/index.php?page_id=22&amp;id=53#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Доклад «Системный анализ инновационного развития России». М.: РОС, 2010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http://www.ssa-rss.ru/index.php?page_id=22&amp;id=53#9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Динамика развития человека. М.:РОС, 2011.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http://www.ssa-rss.ru/index.php?page_id=22&amp;id=53#1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Развитие человека в России: долгосрочный прогно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. исслед. 201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№ 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C. 70-8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 Диагностика и прогнозирование Арабских революций 2011. Федеральный образовательный портал «Экономика, Социология, Менеджмент». М.: 2011.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http://ecsocman.hse.ru/docs/33722887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льковский М.Б. Социология архитектуры. М.: Русский авангард, 2010.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6"/>
              </a:rPr>
              <a:t>http://www.ssa-rss.ru/index.php?page_id=22&amp;id=53#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ыдов А.А.,Чураков А.Н. Компьютерная экспертно-диагностическая система МАКС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8"/>
              </a:rPr>
              <a:t>http://www.ssa-rss.ru/index.php?page_id=22&amp;id=53#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раков А.Н. Компьютерная система для анализа текстов Контент-Анализ ПРО (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0"/>
              </a:rPr>
              <a:t>http://www.ssa-rss.ru/index.php?page_id=22&amp;id=53#1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Об авторе доклад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ыдов Андрей Александ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тор философских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й научный сотрудник Института социологии РАН, руководитель группы «Анализ социальных систе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исследовательского комитета «Системная социология» Российского общества социологов (РОС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це-президент Российского общества социологов (РО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лен-корреспондент Международной академии информационных процессов и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йствительный член Академии наук Нью-Йо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ый адрес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ly@yandex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СПЕЦИФИКА СИСТЕМНОЙ СОЦИОЛОГ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912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Место системной социологии в классификации специальностей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1484280"/>
            <a:ext cx="2881440" cy="266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08360" y="1484280"/>
            <a:ext cx="2016000" cy="266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ци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27640" y="1484280"/>
            <a:ext cx="2376720" cy="266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1484280"/>
            <a:ext cx="273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ный анализ, управление и обработка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ифр специа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5.13.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хнические науки, физико-математически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3640" y="22050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дицио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олог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сти, в частности, социология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7" idx="3"/>
            <a:endCxn id="528" idx="1"/>
          </p:cNvCxnSpPr>
          <p:nvPr/>
        </p:nvCxnSpPr>
        <p:spPr>
          <a:xfrm>
            <a:off x="5724360" y="2815920"/>
            <a:ext cx="50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395280" y="4076640"/>
            <a:ext cx="2881440" cy="244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4292640"/>
            <a:ext cx="275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вление в социальных и экономических систем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ифр специа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5.13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хнические науки, экономически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2" idx="3"/>
            <a:endCxn id="527" idx="2"/>
          </p:cNvCxnSpPr>
          <p:nvPr/>
        </p:nvCxnSpPr>
        <p:spPr>
          <a:xfrm flipV="1">
            <a:off x="3276360" y="4147920"/>
            <a:ext cx="1440360" cy="115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5" name=""/>
          <p:cNvCxnSpPr>
            <a:stCxn id="526" idx="3"/>
            <a:endCxn id="527" idx="1"/>
          </p:cNvCxnSpPr>
          <p:nvPr/>
        </p:nvCxnSpPr>
        <p:spPr>
          <a:xfrm flipV="1">
            <a:off x="3276360" y="2815920"/>
            <a:ext cx="432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395280" y="907920"/>
            <a:ext cx="5329080" cy="5050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ystems Science (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наука о системах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Задачи системной социологии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ystems Management (системное управление социальными систем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 организационны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ирование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ирование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нозирование динамики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социаль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методов сбора, анализа и моделирования информации, включая разработку компьютерных систе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ining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ычи зн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Decision Support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DSS) – систем поддержки принятия управленческих реш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Методологические парадигмы и некоторые связи системной социологии: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ческие парадигмы системной социолог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ественнонауч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ьют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ально-инжене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Science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Е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Scienc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Neuro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tional Soc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 соци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anagement Sci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rganization 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обальное суперкомпьютерное модел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Теории системного управл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s The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ystems Dynamics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Systems The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tional Learning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Leadership The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os theory in organizational developmen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field interactiv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chman social systems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on and Mitroff strategic assumption surfacing and testing (S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koff social systems sci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ge soft systems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Hard Systems Methodology Management</a:t>
            </a:r>
            <a:br>
              <a:rPr sz="28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(«жесткая» системная методология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6048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4:39:29Z</dcterms:created>
  <dc:creator>Волк</dc:creator>
  <dc:description/>
  <dc:language>en-US</dc:language>
  <cp:lastModifiedBy>Волк</cp:lastModifiedBy>
  <dcterms:modified xsi:type="dcterms:W3CDTF">2011-10-13T04:51:25Z</dcterms:modified>
  <cp:revision>406</cp:revision>
  <dc:subject/>
  <dc:title>Всероссийская научная конференция  «Управление и общество: назревшие проблемы, исследования и разработки» (25-27 октября, Москва, 2011).</dc:title>
</cp:coreProperties>
</file>